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F663-0482-4EDD-832B-33C4EB65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A0E-C59C-4B27-824D-12B9A6BA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E30-0E6E-4C12-9DD8-BDDD9C02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8CD-CC33-4127-A8AD-9C48934E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9F6-C811-4C16-8630-756653ED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D7A-D25E-45D9-AE5E-4BC66F82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1905-51C0-4E56-AEBF-C8B38B66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85FB-9FBA-498E-B897-D9148840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EE2-3F39-433C-8C79-5F61736C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2D7A-ADAA-446B-BBA3-16971B05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D5C9-3C01-4022-A0B6-0DA0DF83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BA02-AC3D-4330-926F-3C6F17B7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B682-BA96-4FFF-A00E-D1D91307D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979560"/>
            <a:ext cx="8713800" cy="5329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80000" y="1628640"/>
            <a:ext cx="143964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F &amp;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F &amp;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144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W, Mech,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580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-Co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WC, SW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3859200"/>
            <a:ext cx="1440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8720" y="39974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4437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3859200"/>
            <a:ext cx="1440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39974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3859200"/>
            <a:ext cx="3024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39974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908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79640" y="4437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465120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272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443700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465120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46512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24019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2421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25480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25480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4000" y="2401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2421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254808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64000" y="254808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28447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9‘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844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‘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1280" y="284472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‘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14920" y="2844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‘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844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56360" y="2838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50720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‘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‘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‘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16360" y="50785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35640" y="46512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3564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‘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29440" y="46512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29440" y="50785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6000" y="3860640"/>
            <a:ext cx="143964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24720" y="39974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6000" y="449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56720" y="45086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56720" y="4567320"/>
            <a:ext cx="71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artner, Lic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36000" y="465300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M, P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07280" y="50785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‘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93080" y="50720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‘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00360" y="979560"/>
            <a:ext cx="0" cy="53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1239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24200" y="1123920"/>
            <a:ext cx="31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Featu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979560"/>
            <a:ext cx="0" cy="53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24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24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5800" y="345960"/>
            <a:ext cx="81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0‘ Scenario for FY04/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12.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630864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23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630864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204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51640" y="630864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72‘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08720" y="1125360"/>
            <a:ext cx="136872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1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93080" y="2421000"/>
            <a:ext cx="1726920" cy="576360"/>
          </a:xfrm>
          <a:prstGeom prst="wedgeEllipseCallout">
            <a:avLst>
              <a:gd name="adj1" fmla="val -2023"/>
              <a:gd name="adj2" fmla="val -11308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: 31,3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5734080"/>
            <a:ext cx="790560" cy="431640"/>
          </a:xfrm>
          <a:prstGeom prst="wedgeEllipseCallout">
            <a:avLst>
              <a:gd name="adj1" fmla="val -17870"/>
              <a:gd name="adj2" fmla="val -117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58160" y="5734080"/>
            <a:ext cx="790560" cy="431640"/>
          </a:xfrm>
          <a:prstGeom prst="wedgeEllipseCallout">
            <a:avLst>
              <a:gd name="adj1" fmla="val -5421"/>
              <a:gd name="adj2" fmla="val -11360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‘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93080" y="3284640"/>
            <a:ext cx="934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94880" y="3284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v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28000" y="3573360"/>
            <a:ext cx="792000" cy="432000"/>
          </a:xfrm>
          <a:prstGeom prst="wedgeEllipseCallout">
            <a:avLst>
              <a:gd name="adj1" fmla="val -87074"/>
              <a:gd name="adj2" fmla="val -3125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7‘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9:00:27Z</dcterms:created>
  <dc:creator>Jürgen Schmitz</dc:creator>
  <dc:description/>
  <dc:language>en-US</dc:language>
  <cp:lastModifiedBy>Linder Robert</cp:lastModifiedBy>
  <dcterms:modified xsi:type="dcterms:W3CDTF">2004-12-10T10:24:01Z</dcterms:modified>
  <cp:revision>23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uthorEmail">
    <vt:lpwstr>linder.robert@siemens.com</vt:lpwstr>
  </property>
  <property fmtid="{D5CDD505-2E9C-101B-9397-08002B2CF9AE}" pid="3" name="_AuthorEmailDisplayName">
    <vt:lpwstr>Linder Robert Com MD PD OS</vt:lpwstr>
  </property>
  <property fmtid="{D5CDD505-2E9C-101B-9397-08002B2CF9AE}" pid="4" name="_EmailEntryID">
    <vt:lpwstr>00000000BDCAF715C440B448BEAB1A6249C7E26907002C596574BA874846A35C843BA87906D70000000FB94B00002C596574BA874846A35C843BA87906D7000001E228A40000</vt:lpwstr>
  </property>
  <property fmtid="{D5CDD505-2E9C-101B-9397-08002B2CF9AE}" pid="5" name="_EmailStoreID">
    <vt:lpwstr>0000000038A1BB1005E5101AA1BB08002B2A56C20000454D534D44422E444C4C00000000000000001B55FA20AA6611CD9BC800AA002FC45A0C0000004D434848394D5041002F6F3D53434E2F6F753D5342534D434848303031452F636E3D526563697069656E74732F636E3D5363686D69747A4A00</vt:lpwstr>
  </property>
  <property fmtid="{D5CDD505-2E9C-101B-9397-08002B2CF9AE}" pid="6" name="_EmailSubject">
    <vt:lpwstr>Please review 'Budget_Übersicht'</vt:lpwstr>
  </property>
  <property fmtid="{D5CDD505-2E9C-101B-9397-08002B2CF9AE}" pid="7" name="_ReviewCycleID">
    <vt:r8>-804364823</vt:r8>
  </property>
</Properties>
</file>